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CAE-652C-4450-98D3-09906411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33B-9B9F-4D5D-8DA6-1E84F18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C56-9BC1-4B5D-ADDE-3DED6D89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1C1-CBE8-43BA-8672-C3E6BB7E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A5F-53D2-40E7-94B0-09F8EBD2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85C-4426-4C04-B09F-FE4AC3D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381-E230-4244-B6C3-351AA8E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663-2F29-4A86-8FE2-7A43EBF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A79-D4C8-4810-A03C-D8A3462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F9B-B573-4C04-A933-0A644E9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30-F930-4405-9400-4387161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0A2-4EF5-41F2-8596-68650B0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F2DE12-6718-4A82-BF05-BA81B5D5230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61400" y="2719440"/>
            <a:ext cx="236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  <a:ea typeface="Times New Roman"/>
              </a:rPr>
              <a:t>Uncooled IR Cam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20598" r="0" b="12197"/>
          <a:stretch/>
        </p:blipFill>
        <p:spPr>
          <a:xfrm>
            <a:off x="3846600" y="6762600"/>
            <a:ext cx="3725640" cy="158940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0200" y="6365880"/>
            <a:ext cx="3726000" cy="221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Key System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Fully autonom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Dynamic re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/V Weight: &lt;14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Payload: 1-3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Endurance: ~4hrs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(payload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Geo-referenced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00" y="8566200"/>
            <a:ext cx="426888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Altitude     10,000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Altitude   200 ft AGL An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us of Action        1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ise Speed             65 K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iter Speed              32 K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g Sp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48 i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1880" y="8566200"/>
            <a:ext cx="388620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/Data 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-Band/UHF (mil sp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ston, 1-cyl, 1.6 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/ 5 V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volt / 35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360" y="1546200"/>
            <a:ext cx="7446960" cy="17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BUSTER SUAV is a fully autonomous, high endurance, man-portable system that provides a robust aerial sensor platform for night/day operations.  Payloads demonstrated to date include uncooled IR cameras (up to 640 x 480), concurrent side and forward looking imagers (operator selectable), HDTV with full resolution downlink,   and an acoustic detection/locat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4800" y="60480"/>
            <a:ext cx="43696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TER SUA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200" y="952560"/>
            <a:ext cx="713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nsors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you need them,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you need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25880" y="4853160"/>
            <a:ext cx="1538280" cy="12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3043" t="12983" r="10868" b="0"/>
          <a:stretch/>
        </p:blipFill>
        <p:spPr>
          <a:xfrm>
            <a:off x="5838840" y="4849920"/>
            <a:ext cx="1628640" cy="121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52280" y="3430440"/>
            <a:ext cx="4356360" cy="12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Upgrades under investig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Heavy Fuel Eng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Communications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n-the-Move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0" t="15316" r="0" b="0"/>
          <a:stretch/>
        </p:blipFill>
        <p:spPr>
          <a:xfrm>
            <a:off x="5181480" y="3127320"/>
            <a:ext cx="2306880" cy="157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2920" y="609588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280" y="609588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x480 UC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4520" y="609588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 x 480 CC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61040" y="609588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x240 UC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42920" y="4780080"/>
            <a:ext cx="1944720" cy="136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257560" y="4805280"/>
            <a:ext cx="1581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4:11:34Z</dcterms:created>
  <dc:creator>NVESD</dc:creator>
  <dc:description/>
  <dc:language>en-US</dc:language>
  <cp:lastModifiedBy>frank.herbst1</cp:lastModifiedBy>
  <dcterms:modified xsi:type="dcterms:W3CDTF">2007-02-01T15:44:17Z</dcterms:modified>
  <cp:revision>14</cp:revision>
  <dc:subject/>
  <dc:title>Slide 1</dc:title>
</cp:coreProperties>
</file>