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92598B-F75C-463C-9039-4DCB655AF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58309-CD8B-4732-B9AF-63004E821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19418-CCC6-4933-A8F4-725EED14D4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ECB03-C5FA-4BCF-8093-BB148522B4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AA5E5-5C80-4102-8F2F-5AF29A134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BE2FA-EAF3-41EB-9E36-7A5DDA985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5033F-5217-4995-9314-1B5E188A1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0EE1C-F1B9-4CAC-BA3E-29134CB9D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9705E-58CF-4C9A-BA4D-87170B21A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02F30-2F1B-42DA-B435-EF72DCA7D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5D09D-5C60-435D-9DC5-677654BBB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59BC7-3E16-4591-99B6-23442D33BD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429DA-A1DC-4D20-98C5-D6F7DA1EAD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838080"/>
            <a:ext cx="76960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large area map shows the general layout of Hondo airport, Hwy US 90, and the BUSTER operating ar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test area map shows the actual boundaries and terrain features of the Hondo test area. The depicted “operator location” is the fixed shelter used by the operator.  This is always the launch area and is always programmed as the lost link recovery 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route of flight shown on the map is just one of many profiles flown to accomplish different test objectives.  Observer locations are also changed to suit each profi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operator and observers communicate by commercial radios. Cell phones are used to obtain weather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re are no area ingress/egress points.  The entire mission is conducted within the depicted are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38160" y="41400"/>
            <a:ext cx="9055080" cy="6708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2438280" y="0"/>
            <a:ext cx="4152960" cy="6858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rank.herbst1</cp:lastModifiedBy>
  <dcterms:modified xsi:type="dcterms:W3CDTF">2007-12-11T13:42:33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