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2E5-BE02-457F-8FA9-4901F61F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167-3EE7-4421-884E-68496572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A27-30D9-4E85-8FA5-D3E036A9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B26-97E8-4816-973A-C668CF28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E2E-F610-43F8-A951-C1C3687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66E-C2D8-4A71-82B9-DBA1CDB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C08-2B2A-44A4-AC9B-0A59314A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A24-E3E4-4E95-B5CF-0DC203A1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3FC-B937-4393-9583-6FD08241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86C-F6B7-4306-903E-0276934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B49-1E43-47CE-A94A-9706FC6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83B-81C2-465C-A8BC-87ED6A64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CCF1-0569-4684-8FD2-BC0FCE715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371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with Data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404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CS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6000" y="220968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73720" y="2971800"/>
            <a:ext cx="533520" cy="2057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590920"/>
            <a:ext cx="304920" cy="175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9640" y="2273400"/>
            <a:ext cx="533520" cy="2146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7560" y="2590920"/>
            <a:ext cx="137160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"/>
            <a:ext cx="54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TER SUAS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.herbst1</cp:lastModifiedBy>
  <dcterms:modified xsi:type="dcterms:W3CDTF">2007-11-06T14:17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