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5D6C6-EDC1-42F0-A80A-C9A82EF06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49DB3-829D-4D91-82A4-9370055ED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03B03-BCED-491C-9998-AFC4F7A36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A51B2-49FE-47A2-8476-DA76DF9C3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3568D-CA94-48FE-9944-33756B6F1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C8E83-FCDA-4EF4-A668-542E4583B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2B46D-8020-40D7-9CA2-382A1BA50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2A3E8-0EDD-4E51-A152-56519210F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0D3B0-80D1-4C1E-A4DA-22F3D5465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70A8A-BB3C-43CA-BA2F-A77A454B7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63D5E-3EFF-448C-8B6E-DC021BE85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438EB-CB07-44FE-9CD3-3C4305DA9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F3355-89D8-4322-A112-51D0C2DBFD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18420" t="29336" r="58100" b="2133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111560" y="1981080"/>
            <a:ext cx="15264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886200" y="1333440"/>
            <a:ext cx="914400" cy="91440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05040" y="2201760"/>
            <a:ext cx="14576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Take 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off/Landing</a:t>
            </a: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 Poi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 flipV="1">
            <a:off x="820800" y="3465000"/>
            <a:ext cx="1295280" cy="180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rot="16200000">
            <a:off x="1688760" y="2489400"/>
            <a:ext cx="4546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200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689280" y="2617920"/>
            <a:ext cx="12956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N 31 48 14.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W 106 25 25.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321080" y="1790640"/>
            <a:ext cx="45720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319640" y="156996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75f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447920" y="3962520"/>
            <a:ext cx="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482120" y="3364200"/>
            <a:ext cx="360" cy="215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365760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903240" y="344952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100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011240"/>
            <a:ext cx="16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Area of Ope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46280" y="26622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C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22:14:46Z</dcterms:created>
  <dc:creator>jeb.toy</dc:creator>
  <dc:description/>
  <dc:language>en-US</dc:language>
  <cp:lastModifiedBy>jeb.toy</cp:lastModifiedBy>
  <dcterms:modified xsi:type="dcterms:W3CDTF">2008-01-08T22:02:19Z</dcterms:modified>
  <cp:revision>5</cp:revision>
  <dc:subject/>
  <dc:title>Slide 1</dc:title>
</cp:coreProperties>
</file>