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EE6-5F8A-4811-BF11-82CA660E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FA6-EA45-48E6-92CB-A5222D5B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ED3-A02D-4005-95B2-9EDFBE7A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CE8-0A91-4B36-A524-7D1B1A97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4E9-3987-48C9-A649-00BAF76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BF1-2E16-43B1-B1AA-C5F28FD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3E4-A041-4349-90FC-B80BE430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995-A9F9-411F-960A-6324E8E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A3F-C350-449B-8171-5BBC60C3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34C-4C5B-4C4A-B210-AFC3F1E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2E7-80AF-4450-A9C4-6F02D86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D96-8399-4419-B9DE-F9115B2C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7805-DF4C-4503-A140-B96395FC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EN A/B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manned Aircraf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Strand Trai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S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Beach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22860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30492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02160" y="2514600"/>
            <a:ext cx="391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WP CA D IMPERIAL BEACH NOLF, CLASS D, SFC – 1500 M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72000" y="2742840"/>
            <a:ext cx="45720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0492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41680" y="160020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6.4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7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55480" y="160020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6.4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8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9160" y="586728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5.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8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7640" y="601992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5.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7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52280"/>
            <a:ext cx="573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VEN A/B OPERATION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6:53:42Z</dcterms:created>
  <dc:creator>USAF User</dc:creator>
  <dc:description/>
  <dc:language>en-US</dc:language>
  <cp:lastModifiedBy>USAF User</cp:lastModifiedBy>
  <dcterms:modified xsi:type="dcterms:W3CDTF">2007-02-23T16:56:25Z</dcterms:modified>
  <cp:revision>21</cp:revision>
  <dc:subject/>
  <dc:title>Slide 1</dc:title>
</cp:coreProperties>
</file>