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173F0-9718-4AEB-9F60-2057F9F20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6B74-5C6C-46F6-8FB5-20498C5D9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EB2A0-2D10-4330-A0B5-A95568B5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0874F-B28F-473F-813B-2ED97FEB2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D8E1-8842-43C8-A4FD-CBBBE3AB2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7735-B00F-492C-9B0B-033057E1A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A9C6-BA9C-4B81-A3B3-ED4120ED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27DA-2727-4E13-8D91-4DB1E5C8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BD333-63C1-4B9F-BA5A-B37C1E7F4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9D00D-5C46-4008-8101-6780B9A7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0F5F-FEAC-46D5-BC9F-BFE450F20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5CAA-7398-459D-95FB-99E404D2A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AFC1-DC4F-4C11-B953-EE7992977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ght-AAF Flight Op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D airspace over WAAF is sterilized by Wright Tower prior to any departure or arrival. The Mission Commander (MC) and ground observers however visually assess the surrounding airspace and are capable of notifying the UAS operator in the event of any potential conflict.  In addition to the MC and ground observers, the UAS is provided air traffic services and advisories by Wright Tower. The operator will take appropriate action to avoid other airborne traffic as instructed by ATC or upon notification by an observer on headset.  Should another aircraft's flight path appear to take it into the flight path of the UAS, the UAS will alter its flight path away from the other aircraf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teral and vertical limits for all ground observers are 1 NM, Surface to 2000’ AGL. The primary ground observer is the Non Flying External Operator who operates from the runway with direct communications with ATC. The EO is assisted by 3 crewmember ground observer on the flight line adjacent to the runway. One observer will be located between R-3305 and WAAF so that lateral distance remains 1 mile or less from the UA.  The ceiling of the Class D airspace is 2500’ MSL. Each observer has as a minimum a military equivalent of a class 3 medical evaluation and has sufficient training to communicate clearly with the AVO and have been trained on operating near other aircraft and right-of-way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parture to enroute</a:t>
            </a:r>
            <a:r>
              <a:rPr b="0" lang="en-US" sz="2800" spc="-1" strike="noStrike">
                <a:solidFill>
                  <a:srgbClr val="000000"/>
                </a:solidFill>
                <a:latin typeface="Arial"/>
              </a:rPr>
              <a:t>:  Upon departure, UAS are cleared for takeoff by Wright Tower. UAS proceed northwest bound over Lawson Fire Tower and enter R-3005 climbing en route to an operating altitude (2000’ – 12,000’) within R3005. Altitudes utilized are cardinal altitudes 2000’ to 12,000’ MSL. UAS are separated geographically, vertically, or both under the control of the radar facility (Marne Radio AIC.)  IAW Fort Stewart Regulation 95-1, all manned and unmanned participants in R-3005 are required to flight follow with Marne Radio at all times and comply with ATC instruc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overy</a:t>
            </a:r>
            <a:r>
              <a:rPr b="0" lang="en-US" sz="2800" spc="-1" strike="noStrike">
                <a:solidFill>
                  <a:srgbClr val="000000"/>
                </a:solidFill>
                <a:latin typeface="Arial"/>
              </a:rPr>
              <a:t>: UA will proceed within R-3005 as directed by Marne Radio descending en route to FP 252 (N 31-55-36.4 W 081-37-42.3). Upon arrival at FP 252 UA enters an orbit and descend to 2000’ as approved by Marne Radio.  Upon arrival at 2000’ aircraft request permission to frequency change to Wright Tower for clearance into the Wright Class D airspace. UAS switch to Tower frequency and proceed as directed by Wright Tower. The Tower issues landing information and clears the UAS for the approach for landing at WAA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flipV="1">
            <a:off x="5410080" y="4419360"/>
            <a:ext cx="609840" cy="22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6019920" y="3962520"/>
            <a:ext cx="304560" cy="457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95880" y="2895480"/>
            <a:ext cx="53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019920" y="2971800"/>
            <a:ext cx="609480" cy="246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P 74</a:t>
            </a:r>
            <a:endParaRPr b="0" lang="en-US" sz="1000" spc="-1" strike="noStrike">
              <a:solidFill>
                <a:srgbClr val="000000"/>
              </a:solidFill>
              <a:latin typeface="Arial"/>
            </a:endParaRPr>
          </a:p>
        </p:txBody>
      </p:sp>
      <p:sp>
        <p:nvSpPr>
          <p:cNvPr id="50" name=""/>
          <p:cNvSpPr/>
          <p:nvPr/>
        </p:nvSpPr>
        <p:spPr>
          <a:xfrm flipV="1">
            <a:off x="6324480" y="3276360"/>
            <a:ext cx="0" cy="685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5410080" y="3809880"/>
            <a:ext cx="3276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ght Army Airfield (LHW)</a:t>
            </a:r>
            <a:endParaRPr b="0" lang="en-US" sz="1800" spc="-1" strike="noStrike">
              <a:solidFill>
                <a:srgbClr val="000000"/>
              </a:solidFill>
              <a:latin typeface="Arial"/>
            </a:endParaRPr>
          </a:p>
        </p:txBody>
      </p:sp>
      <p:sp>
        <p:nvSpPr>
          <p:cNvPr id="53" name=""/>
          <p:cNvSpPr/>
          <p:nvPr/>
        </p:nvSpPr>
        <p:spPr>
          <a:xfrm flipH="1">
            <a:off x="4952880" y="3962520"/>
            <a:ext cx="4572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95280"/>
            <a:ext cx="9144000" cy="6067440"/>
          </a:xfrm>
          <a:prstGeom prst="rect">
            <a:avLst/>
          </a:prstGeom>
          <a:ln w="0">
            <a:noFill/>
          </a:ln>
        </p:spPr>
      </p:pic>
      <p:sp>
        <p:nvSpPr>
          <p:cNvPr id="55" name=""/>
          <p:cNvSpPr/>
          <p:nvPr/>
        </p:nvSpPr>
        <p:spPr>
          <a:xfrm>
            <a:off x="5715000" y="3505320"/>
            <a:ext cx="259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HW) Class D.</a:t>
            </a:r>
            <a:endParaRPr b="0" lang="en-US" sz="1800" spc="-1" strike="noStrike">
              <a:solidFill>
                <a:srgbClr val="000000"/>
              </a:solidFill>
              <a:latin typeface="Arial"/>
            </a:endParaRPr>
          </a:p>
        </p:txBody>
      </p:sp>
      <p:sp>
        <p:nvSpPr>
          <p:cNvPr id="56" name=""/>
          <p:cNvSpPr/>
          <p:nvPr/>
        </p:nvSpPr>
        <p:spPr>
          <a:xfrm flipH="1">
            <a:off x="5562360" y="373392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395280"/>
            <a:ext cx="9144000" cy="6067440"/>
          </a:xfrm>
          <a:prstGeom prst="rect">
            <a:avLst/>
          </a:prstGeom>
          <a:ln w="0">
            <a:noFill/>
          </a:ln>
        </p:spPr>
      </p:pic>
      <p:sp>
        <p:nvSpPr>
          <p:cNvPr id="58" name=""/>
          <p:cNvSpPr/>
          <p:nvPr/>
        </p:nvSpPr>
        <p:spPr>
          <a:xfrm>
            <a:off x="1066680" y="65833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Y 24L Departure</a:t>
            </a:r>
            <a:endParaRPr b="0" lang="en-US" sz="1200" spc="-1" strike="noStrike">
              <a:solidFill>
                <a:srgbClr val="000000"/>
              </a:solidFill>
              <a:latin typeface="Arial"/>
            </a:endParaRPr>
          </a:p>
        </p:txBody>
      </p:sp>
      <p:sp>
        <p:nvSpPr>
          <p:cNvPr id="59" name=""/>
          <p:cNvSpPr/>
          <p:nvPr/>
        </p:nvSpPr>
        <p:spPr>
          <a:xfrm>
            <a:off x="3048120" y="65833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Y 06R Departure</a:t>
            </a:r>
            <a:endParaRPr b="0" lang="en-US" sz="1200" spc="-1" strike="noStrike">
              <a:solidFill>
                <a:srgbClr val="000000"/>
              </a:solidFill>
              <a:latin typeface="Arial"/>
            </a:endParaRPr>
          </a:p>
        </p:txBody>
      </p:sp>
      <p:sp>
        <p:nvSpPr>
          <p:cNvPr id="60" name=""/>
          <p:cNvSpPr/>
          <p:nvPr/>
        </p:nvSpPr>
        <p:spPr>
          <a:xfrm>
            <a:off x="4952880" y="65833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Y 33L Departure</a:t>
            </a:r>
            <a:endParaRPr b="0" lang="en-US" sz="1200" spc="-1" strike="noStrike">
              <a:solidFill>
                <a:srgbClr val="000000"/>
              </a:solidFill>
              <a:latin typeface="Arial"/>
            </a:endParaRPr>
          </a:p>
        </p:txBody>
      </p:sp>
      <p:sp>
        <p:nvSpPr>
          <p:cNvPr id="61" name=""/>
          <p:cNvSpPr/>
          <p:nvPr/>
        </p:nvSpPr>
        <p:spPr>
          <a:xfrm>
            <a:off x="7162920" y="65833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Y 15R Departure</a:t>
            </a:r>
            <a:endParaRPr b="0" lang="en-US" sz="1200" spc="-1" strike="noStrike">
              <a:solidFill>
                <a:srgbClr val="000000"/>
              </a:solidFill>
              <a:latin typeface="Arial"/>
            </a:endParaRPr>
          </a:p>
        </p:txBody>
      </p:sp>
      <p:sp>
        <p:nvSpPr>
          <p:cNvPr id="62" name=""/>
          <p:cNvSpPr/>
          <p:nvPr/>
        </p:nvSpPr>
        <p:spPr>
          <a:xfrm>
            <a:off x="6934320" y="6553080"/>
            <a:ext cx="22860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724280" y="6553080"/>
            <a:ext cx="22860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6553080"/>
            <a:ext cx="2286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38080" y="6553080"/>
            <a:ext cx="22860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259092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iles from WAAF to R-3005</a:t>
            </a:r>
            <a:endParaRPr b="0" lang="en-US" sz="1800" spc="-1" strike="noStrike">
              <a:solidFill>
                <a:srgbClr val="000000"/>
              </a:solidFill>
              <a:latin typeface="Arial"/>
            </a:endParaRPr>
          </a:p>
        </p:txBody>
      </p:sp>
      <p:sp>
        <p:nvSpPr>
          <p:cNvPr id="67" name=""/>
          <p:cNvSpPr/>
          <p:nvPr/>
        </p:nvSpPr>
        <p:spPr>
          <a:xfrm flipH="1">
            <a:off x="5105520" y="2590920"/>
            <a:ext cx="30456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2120" y="3962520"/>
            <a:ext cx="28191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W Class D</a:t>
            </a:r>
            <a:endParaRPr b="0" lang="en-US" sz="1800" spc="-1" strike="noStrike">
              <a:solidFill>
                <a:srgbClr val="000000"/>
              </a:solidFill>
              <a:latin typeface="Arial"/>
            </a:endParaRPr>
          </a:p>
        </p:txBody>
      </p:sp>
      <p:sp>
        <p:nvSpPr>
          <p:cNvPr id="69" name=""/>
          <p:cNvSpPr/>
          <p:nvPr/>
        </p:nvSpPr>
        <p:spPr>
          <a:xfrm flipH="1" flipV="1">
            <a:off x="533520" y="3429000"/>
            <a:ext cx="30456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505320" y="1523880"/>
            <a:ext cx="16761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005</a:t>
            </a:r>
            <a:endParaRPr b="0" lang="en-US" sz="1800" spc="-1" strike="noStrike">
              <a:solidFill>
                <a:srgbClr val="000000"/>
              </a:solidFill>
              <a:latin typeface="Arial"/>
            </a:endParaRPr>
          </a:p>
        </p:txBody>
      </p:sp>
      <p:sp>
        <p:nvSpPr>
          <p:cNvPr id="71" name=""/>
          <p:cNvSpPr/>
          <p:nvPr/>
        </p:nvSpPr>
        <p:spPr>
          <a:xfrm>
            <a:off x="4114800" y="1828800"/>
            <a:ext cx="1522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flipV="1">
            <a:off x="457200" y="609480"/>
            <a:ext cx="5105520" cy="381024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7200" y="4419720"/>
            <a:ext cx="914400" cy="12952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1371600" y="4190760"/>
            <a:ext cx="1981080" cy="144756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486400" y="685800"/>
            <a:ext cx="990720" cy="121932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724280" y="1905120"/>
            <a:ext cx="1676520" cy="12952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2280" y="6248520"/>
            <a:ext cx="3733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raffic Patterns 6R/24L</a:t>
            </a:r>
            <a:endParaRPr b="0" lang="en-US" sz="1400" spc="-1" strike="noStrike">
              <a:solidFill>
                <a:srgbClr val="000000"/>
              </a:solidFill>
              <a:latin typeface="Arial"/>
            </a:endParaRPr>
          </a:p>
        </p:txBody>
      </p:sp>
      <p:sp>
        <p:nvSpPr>
          <p:cNvPr id="79" name=""/>
          <p:cNvSpPr/>
          <p:nvPr/>
        </p:nvSpPr>
        <p:spPr>
          <a:xfrm>
            <a:off x="2286000" y="6400800"/>
            <a:ext cx="1295280" cy="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257800" y="6248520"/>
            <a:ext cx="3733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raffic Patterns 33L/15R</a:t>
            </a:r>
            <a:endParaRPr b="0" lang="en-US" sz="1400" spc="-1" strike="noStrike">
              <a:solidFill>
                <a:srgbClr val="000000"/>
              </a:solidFill>
              <a:latin typeface="Arial"/>
            </a:endParaRPr>
          </a:p>
        </p:txBody>
      </p:sp>
      <p:sp>
        <p:nvSpPr>
          <p:cNvPr id="81" name=""/>
          <p:cNvSpPr/>
          <p:nvPr/>
        </p:nvSpPr>
        <p:spPr>
          <a:xfrm>
            <a:off x="7467480" y="6400800"/>
            <a:ext cx="1295640" cy="0"/>
          </a:xfrm>
          <a:prstGeom prst="line">
            <a:avLst/>
          </a:prstGeom>
          <a:ln w="3816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3580920" y="1599840"/>
            <a:ext cx="1295640" cy="160020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172200" y="4572000"/>
            <a:ext cx="990720" cy="106668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3580920" y="685800"/>
            <a:ext cx="1295640" cy="91440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7162560" y="4572000"/>
            <a:ext cx="1066680" cy="106668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4800240" y="609120"/>
            <a:ext cx="3429000" cy="388620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920" y="129528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NTER MQ-5B   Traffic Patt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42:47Z</dcterms:created>
  <dc:creator>USAF User</dc:creator>
  <dc:description/>
  <dc:language>en-US</dc:language>
  <cp:lastModifiedBy>USAF User</cp:lastModifiedBy>
  <dcterms:modified xsi:type="dcterms:W3CDTF">2007-06-26T13:02:41Z</dcterms:modified>
  <cp:revision>6</cp:revision>
  <dc:subject/>
  <dc:title>Slide 1</dc:title>
</cp:coreProperties>
</file>