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8AA-4126-47C8-8F2F-6D01AA28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F96-6A04-44A6-90A4-A64A782C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ED7-989A-46D3-AF9B-33613D5F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99D-E69C-4876-95CE-835EFEAE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B33-B989-403C-8666-15BB82CF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905-A5D2-458D-A46D-8616FC04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F22-281A-4C44-B1CD-21218B8E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8BB-450F-43D1-8A57-5ACFD48C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719-17D4-4BCD-A127-14045443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3B3-63D5-41BC-80A9-C2C366DA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8DA-AA34-4613-88E5-0F3C28FE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00F-978D-4EDF-8D26-205D05F0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7F8B-BC00-4B7B-9A04-D38500220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1828800"/>
            <a:ext cx="5943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nter B Route to/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-3005D – W-15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ALGAM FALCON DART 0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57400" y="1828800"/>
            <a:ext cx="5943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nter B altitude from R-3005D to W-15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,500’ M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nter B altitude from W-157A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R-3005D (same track) 8,500’ M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57400" y="1828800"/>
            <a:ext cx="594360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nter B Route waypoints from R-3005D to W-157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1 - N  31° 59' 00.00"   W  081° 20' 00.0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2 - N  31° 58' 00.00"   W  081° 17' 00.00"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3 - N  31° 52' 00.00"   W  081° 13' 00.00"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4 - N  31° 50' 00.00"   W  081° 00' 00.00"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5 - N  31° 50' 00.00"   W  080° 33' 00.00"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distance = 43.9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395280"/>
            <a:ext cx="87631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395280"/>
            <a:ext cx="87631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395280"/>
            <a:ext cx="87631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71360" y="395280"/>
            <a:ext cx="94867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18:34:57Z</dcterms:created>
  <dc:creator>USAF User</dc:creator>
  <dc:description/>
  <dc:language>en-US</dc:language>
  <cp:lastModifiedBy>USAF User</cp:lastModifiedBy>
  <dcterms:modified xsi:type="dcterms:W3CDTF">2007-06-19T20:12:12Z</dcterms:modified>
  <cp:revision>6</cp:revision>
  <dc:subject/>
  <dc:title>Slide 1</dc:title>
</cp:coreProperties>
</file>