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E99-3572-44FA-A3A6-2AD2A014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A58-4120-453A-A2A8-240224E8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C06-52EE-47A0-B959-8B1D5D43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0B1-9E05-47C7-85F7-4B187C23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ADF-9C19-4288-9899-381DCFF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FEC-3CF1-4215-813E-D1525F7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7A7-3B98-407D-9EFA-97E09BE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371-D935-41A1-B05A-1F135A23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45C-F88D-4C87-BE74-611BD121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A78-FE19-44BA-AA9A-A0603C6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E7C-25B6-41C5-8834-7E4E7B7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D69-B5D0-4A7C-A7BF-A2BE353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512-4A54-4638-95BD-DE0F0C77F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EN A/B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manned Aircraf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Strand Trai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S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Beach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22860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30492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2160" y="2514600"/>
            <a:ext cx="391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WP CA D IMPERIAL BEACH NOLF, CLASS D, SFC – 1500 M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72000" y="2742840"/>
            <a:ext cx="45720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0492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416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554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9160" y="586728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7640" y="601992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573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VEN A/B OPERATION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6:53:42Z</dcterms:created>
  <dc:creator>USAF User</dc:creator>
  <dc:description/>
  <dc:language>en-US</dc:language>
  <cp:lastModifiedBy>USAF User</cp:lastModifiedBy>
  <dcterms:modified xsi:type="dcterms:W3CDTF">2007-02-23T16:56:25Z</dcterms:modified>
  <cp:revision>21</cp:revision>
  <dc:subject/>
  <dc:title>Slide 1</dc:title>
</cp:coreProperties>
</file>