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8DB-D4BF-4ED3-8D7D-BF9895E1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D6C-256B-476D-8A18-25CF8755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76A-B435-46A7-93D3-9C6AB076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E74-0C14-4711-B178-7FE61931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EA4-6C52-461B-8EE2-C570E27B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EC4-2342-46C5-8C5D-DCD14D21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C0E-8F8E-4047-AE65-DCF70993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69D-3E56-436C-AC9A-960CD4E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D02-7161-4D37-B56C-CC3A7811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998-5288-4A7A-9DE4-3F5B6717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DBF-E317-4B47-B0C0-C608E676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9AF-CDF7-4567-949F-41BFA10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4953-0A94-472A-8135-3980EB145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4760" y="114480"/>
            <a:ext cx="2028960" cy="232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36440" y="4662360"/>
            <a:ext cx="2987640" cy="2014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MAV test operations will take place in Class G Airspace.  Flight operations will be conducted between 100 – 400 feet AGL.  Over lying class E Airspace begins at 700 feet A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5640" y="295200"/>
            <a:ext cx="81727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32440" y="3636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4560" y="790560"/>
            <a:ext cx="6914880" cy="527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20529000">
            <a:off x="3352320" y="1904760"/>
            <a:ext cx="838440" cy="271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6765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50" name="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96120" y="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06160" y="11268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00920" cy="5019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3581280"/>
            <a:ext cx="457200" cy="149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3415200">
            <a:off x="4482720" y="2450880"/>
            <a:ext cx="457200" cy="1498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999200">
            <a:off x="2936520" y="2141280"/>
            <a:ext cx="457200" cy="1650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21840" y="33210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9440" y="20574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8760" y="4952880"/>
            <a:ext cx="18295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1337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41911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65" name="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65600" y="106668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86440" cy="4314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57560" y="3228840"/>
            <a:ext cx="50864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16:10Z</dcterms:created>
  <dc:creator>RyanRA</dc:creator>
  <dc:description/>
  <dc:language>en-US</dc:language>
  <cp:lastModifiedBy>RyanRA</cp:lastModifiedBy>
  <dcterms:modified xsi:type="dcterms:W3CDTF">2007-11-21T16:02:46Z</dcterms:modified>
  <cp:revision>6</cp:revision>
  <dc:subject/>
  <dc:title>Slide 1</dc:title>
</cp:coreProperties>
</file>