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635-4CA8-4BCE-877B-C5E9EF55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0A0-29CF-4FBF-AAC6-BE0B9C20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B73-C069-4AE3-BC47-63546673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9D3-C517-4349-B498-D847A72F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FDA-A735-4F4C-97EC-83D1AC8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F67-E0B4-4098-B576-DD51D161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FAD-5D74-4809-B63F-ACD626C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A74-1A5B-4643-AEBC-50BD9D18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60C-343D-4226-81CB-EED7206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897-1E86-4223-8095-100FEF42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45E-4A72-4DB8-94AF-122FA0D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28E-9CBB-4CA5-A84F-9FEE1E1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hme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D69-D8AE-461B-AFD0-124510A2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Q-1 Normal Traffic Pattern a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thern California Logistics Air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51055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1280" cy="49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4648320" y="3124080"/>
            <a:ext cx="2514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029200" y="3504960"/>
            <a:ext cx="243828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81952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 Approved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xisting UAV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D Air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4038480"/>
            <a:ext cx="635040" cy="48276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400" y="288"/>
                </a:moveTo>
                <a:cubicBezTo>
                  <a:pt x="312" y="296"/>
                  <a:pt x="224" y="304"/>
                  <a:pt x="160" y="288"/>
                </a:cubicBezTo>
                <a:cubicBezTo>
                  <a:pt x="96" y="272"/>
                  <a:pt x="32" y="232"/>
                  <a:pt x="16" y="192"/>
                </a:cubicBezTo>
                <a:cubicBezTo>
                  <a:pt x="0" y="152"/>
                  <a:pt x="40" y="80"/>
                  <a:pt x="64" y="48"/>
                </a:cubicBezTo>
                <a:cubicBezTo>
                  <a:pt x="88" y="16"/>
                  <a:pt x="124" y="8"/>
                  <a:pt x="1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3035160"/>
            <a:ext cx="571320" cy="470160"/>
          </a:xfrm>
          <a:custGeom>
            <a:avLst/>
            <a:gdLst/>
            <a:ahLst/>
            <a:rect l="l" t="t" r="r" b="b"/>
            <a:pathLst>
              <a:path w="360" h="296">
                <a:moveTo>
                  <a:pt x="0" y="56"/>
                </a:moveTo>
                <a:cubicBezTo>
                  <a:pt x="68" y="28"/>
                  <a:pt x="136" y="0"/>
                  <a:pt x="192" y="8"/>
                </a:cubicBezTo>
                <a:cubicBezTo>
                  <a:pt x="248" y="16"/>
                  <a:pt x="312" y="72"/>
                  <a:pt x="336" y="104"/>
                </a:cubicBezTo>
                <a:cubicBezTo>
                  <a:pt x="360" y="136"/>
                  <a:pt x="360" y="168"/>
                  <a:pt x="336" y="200"/>
                </a:cubicBezTo>
                <a:cubicBezTo>
                  <a:pt x="312" y="232"/>
                  <a:pt x="216" y="280"/>
                  <a:pt x="192" y="2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9:25:47Z</dcterms:created>
  <dc:creator>keith.ward</dc:creator>
  <dc:description/>
  <dc:language>en-US</dc:language>
  <cp:lastModifiedBy>Keith Ward</cp:lastModifiedBy>
  <dcterms:modified xsi:type="dcterms:W3CDTF">2007-03-03T20:06:45Z</dcterms:modified>
  <cp:revision>4</cp:revision>
  <dc:subject/>
  <dc:title>163 ARW LRE Beddown So Cal Logistics Airport  (George AFB)</dc:title>
</cp:coreProperties>
</file>