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7A0-7CF9-4F68-B184-452F7A01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910-54FC-4403-9A2E-12006906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7C3-7CA8-4A59-813D-54679823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47E-EDF1-4AF3-AC31-AE7504B3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F5D-64DD-48B2-A8B6-80CCAE72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C62-A0EC-4086-B757-9836AF8C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53B-1677-4E40-B7B2-552874C6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281-695C-4271-9248-17AAD5E7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631-4853-49C1-8A8A-52AFC72D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154-39C3-4C60-9207-52F1F21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EC7-794C-4714-A326-E73ED745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2B7-4D3E-4C23-8C6A-39B3CA3B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976F-B918-4567-9201-479C4C11D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VEN A/B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manned Aircraf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 Strand Training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S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Beach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41680" y="160020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6.4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7.3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55480" y="160020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6.4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8.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9160" y="586728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5.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8.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7640" y="6019920"/>
            <a:ext cx="1537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32.35.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117.07.3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152280"/>
            <a:ext cx="573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VEN A/B OPERATIONS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 BEACH, CLASS D, SFC – 1500 M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6:53:42Z</dcterms:created>
  <dc:creator>USAF User</dc:creator>
  <dc:description/>
  <dc:language>en-US</dc:language>
  <cp:lastModifiedBy>USAF User</cp:lastModifiedBy>
  <dcterms:modified xsi:type="dcterms:W3CDTF">2007-02-23T17:05:11Z</dcterms:modified>
  <cp:revision>22</cp:revision>
  <dc:subject/>
  <dc:title>Slide 1</dc:title>
</cp:coreProperties>
</file>