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4E4D-E5D2-451C-8691-394655C70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82B6-3F5E-42EA-965D-F596C6803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4397-3CCB-4832-B5C3-E0C317BC7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C295-6B02-4F78-AFFA-2F3BF1893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943F-EAAE-4909-81AC-0B0465D19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0CD5-3BB5-49C8-90C7-B133B737B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162B-97E0-4A1E-955B-A8B1B9744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7AC3-5CB6-4FD3-AB2E-2CD44C859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D0A5-7062-47C6-B4C9-256AC8115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98CD-89FC-48A4-9E50-040AA6655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EC39-E36F-4E8B-AA10-715F63144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F67F-AC66-419F-B102-708173A6D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3800" y="47520"/>
            <a:ext cx="2895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5288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F07-03F3-4D5C-9336-52AF3F904F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59592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98440" y="6624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2760" y="6613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tion 7 (B249BWF1 Supple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DBD2-1393-4EA9-8646-16BB69EBE4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4222" r="0" b="2480"/>
          <a:stretch/>
        </p:blipFill>
        <p:spPr>
          <a:xfrm>
            <a:off x="11160" y="307800"/>
            <a:ext cx="913284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2BAD-C261-4A7A-9546-87D907EFE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093" r="0" b="239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0083-8F08-41BD-8D29-80A74DDE19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3473" r="0" b="28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1870-9211-4413-BD54-E4DE9AD958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403" r="0" b="26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4280-B656-43A0-A234-F885167BD8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518" r="0" b="234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E364-A9EF-474E-9179-07A303217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3580" r="0" b="255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DB11-9DAF-41DB-8996-ECA7DB0645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564984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D3A3-2CAA-405E-BAA3-B674581612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640" r="0" b="2510"/>
          <a:stretch/>
        </p:blipFill>
        <p:spPr>
          <a:xfrm>
            <a:off x="0" y="307800"/>
            <a:ext cx="9144000" cy="616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41BE-ACDB-45D6-9438-DBC9C0AA75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222" r="0" b="2610"/>
          <a:stretch/>
        </p:blipFill>
        <p:spPr>
          <a:xfrm>
            <a:off x="23760" y="307800"/>
            <a:ext cx="9120240" cy="631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7FC6-C4C2-4E30-84AE-7888927E9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241" r="0" b="204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6B02-8A95-42DF-937D-C92303A93A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3964" r="0" b="37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3D9F-1DA2-4782-9652-BC4466C537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3292" r="0" b="2606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5BF2-9809-4772-983C-80DCF6A60F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03:31Z</dcterms:created>
  <dc:creator>harrije2</dc:creator>
  <dc:description/>
  <dc:language>en-US</dc:language>
  <cp:lastModifiedBy>michael.masucci</cp:lastModifiedBy>
  <dcterms:modified xsi:type="dcterms:W3CDTF">2007-10-23T23:33:28Z</dcterms:modified>
  <cp:revision>114</cp:revision>
  <dc:subject/>
  <dc:title>Slide 1</dc:title>
</cp:coreProperties>
</file>